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C39-AAAB-4850-A21B-E7AF3348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DB3-4533-45B1-9C78-3248D65A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12A-6FB9-474C-A38D-8DD7DCC3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D73-6B10-46C7-A3CD-2A59534F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87F-5C8F-4DBD-92F1-5EA6365E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8A9-9CA2-409B-AB7A-B2ACAE4D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937-91BB-4BB5-AE56-259C0D6E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137-3309-4F13-AD9B-D6FE2248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E9C-613F-49DA-B8AA-053B8E1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23-2D20-4E41-8A48-C5CACE8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EF1-67FF-41FD-AB8B-86C56E6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953-127A-4127-9045-832D9F7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ath Ed pg17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BA7-C80B-4A3D-9ECC-FBB8503908F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earthsongaustralia/3987819431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earth from space by EarthSong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57120"/>
            <a:ext cx="8184960" cy="528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4597a0"/>
                </a:solidFill>
                <a:latin typeface="Arial"/>
              </a:rPr>
              <a:t>CEOM Sustainable Office Strategy</a:t>
            </a:r>
            <a:br>
              <a:rPr sz="4000"/>
            </a:br>
            <a:r>
              <a:rPr b="0" lang="en-AU" sz="4000" spc="-1" strike="noStrike">
                <a:solidFill>
                  <a:srgbClr val="4597a0"/>
                </a:solidFill>
                <a:latin typeface="Arial"/>
              </a:rPr>
              <a:t>2010-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Sept 09-Mar 10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ing draft Policy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Mar- Ma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with key manag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ecutive team,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July 2010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OC 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June – Augus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letion of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with staff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Septemb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edback from staff groups to G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b050"/>
                </a:solidFill>
                <a:latin typeface="Arial"/>
              </a:rPr>
              <a:t>Octob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atification by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Consultation with staff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een Office committee reps on most staff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sentation to your staf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cussion of your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cide which priorities you will focus on a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corporate into Work Pla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mph" presetID="5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mph" presetID="5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9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build a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culture of sustainability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ch reflects our responsibility to care for God’s cre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develop and promote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behaviours, practices and policie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contribute to the development of a sustainable future for us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Culture of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staff become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more awar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the importance of sustainability and ways to improve sustainability in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a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positive environment for chan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created and mainta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staff demonstrate an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increased commitment to sustainabilit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a Christian ecological spirituality be supported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through opportunities for prayer for creation and a sustainable future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sustainability goal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 included in the next </a:t>
            </a:r>
            <a:r>
              <a:rPr b="0" lang="en-AU" sz="1800" spc="-1" strike="noStrike">
                <a:solidFill>
                  <a:srgbClr val="c00000"/>
                </a:solidFill>
                <a:latin typeface="Arial"/>
              </a:rPr>
              <a:t>Archdiocesan Strategy Pla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CEOM 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ept - Our Lady of the Rosary Kyneton Tree Planting 1"/>
          <p:cNvPicPr/>
          <p:nvPr/>
        </p:nvPicPr>
        <p:blipFill>
          <a:blip r:embed="rId1"/>
          <a:stretch/>
        </p:blipFill>
        <p:spPr>
          <a:xfrm>
            <a:off x="7072200" y="5197320"/>
            <a:ext cx="1855800" cy="1392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Behaviours, Practices an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 Green Offic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policy, procedures and strategy plan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developed, communicated to staff, implemented, monitored and reported on to sta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ll staff demonstrat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behaviours which reduce energy and water consum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ll CEOM practices reflect a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commitment to the principle of Refuse/ Reduce/Re-use/ R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a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system of measurement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s developed that enables monitoring and evaluation of resource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Behaviours, Practices an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CEOM increase its use of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sustainabl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CEOM workspaces are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designed to optimise sustainability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le ensuring an efficient and comfortab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required, that the CEOM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work with the Archdiocese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Melbourne to select new premises which </a:t>
            </a:r>
            <a:r>
              <a:rPr b="0" lang="en-AU" sz="2000" spc="-1" strike="noStrike">
                <a:solidFill>
                  <a:srgbClr val="c00000"/>
                </a:solidFill>
                <a:latin typeface="Arial"/>
              </a:rPr>
              <a:t>optimise sustainability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while ensuring an efficient and comfortab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ept - Healesville - St Brigid's PS- Thomas and Amelia  with permission to use"/>
          <p:cNvPicPr/>
          <p:nvPr/>
        </p:nvPicPr>
        <p:blipFill>
          <a:blip r:embed="rId1"/>
          <a:stretch/>
        </p:blipFill>
        <p:spPr>
          <a:xfrm>
            <a:off x="4643280" y="1214280"/>
            <a:ext cx="41436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Targ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least one sustainability goal be included in the Archdiocesan Strategy Plan and the CEOM Action Plan for the next triennium/quadren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Energy and Wa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energy use by 10% each year – 30% over 3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water use by 20% over 3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paper waste by 15–20% each year – 50% by the end of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Was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duce landfill waste by 15–20% each year – 50% by the end of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 print publications to be printed on environmentally sustainable paper (recycled or from sustainably managed forestry) with sustainable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0" t="0" r="0" b="4618"/>
          <a:stretch/>
        </p:blipFill>
        <p:spPr>
          <a:xfrm>
            <a:off x="6929280" y="2286000"/>
            <a:ext cx="2016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duce use of pool c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fuel-efficiency of pool c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use of public transport to and from work espe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4b50"/>
                </a:solidFill>
                <a:latin typeface="Arial"/>
              </a:rPr>
              <a:t>Strategies /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vidual Strategies are identified for each goal and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ff groups are linked to each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ntion is that staff groups would take on the strategy and incorporate it into their work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oice of strategies to focus on initially, making at least one a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Achievements -Common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224b5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ch has already been done by individuals and Staff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ssible common Strategy to star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e paper use by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fford to change to a 100% recycled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3:29:16Z</dcterms:created>
  <dc:creator>grosemeyer</dc:creator>
  <dc:description/>
  <dc:language>en-US</dc:language>
  <cp:lastModifiedBy>cgrinsted</cp:lastModifiedBy>
  <dcterms:modified xsi:type="dcterms:W3CDTF">2011-09-02T03:42:53Z</dcterms:modified>
  <cp:revision>28</cp:revision>
  <dc:subject/>
  <dc:title>CEOM Green Office Policy</dc:title>
</cp:coreProperties>
</file>